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4157-D753-4335-A212-0AEBDEE7BB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’intégrer dans les plans de secours en qualité d’AS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surtout le plan blan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se en compte de l’enfant et de l’adol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imes New Roman"/>
              </a:rPr>
              <a:t>certificat de capacité pour effectuer des prélèvements sanguins </a:t>
            </a:r>
            <a:r>
              <a:rPr b="1" lang="fr-FR" sz="1200" spc="-1" strike="noStrike">
                <a:solidFill>
                  <a:srgbClr val="000066"/>
                </a:solidFill>
                <a:latin typeface="Times New Roman"/>
              </a:rPr>
              <a:t>en vue d’analyse de biologie médi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D27-5226-4C6E-A40E-8FE53082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8D8-837F-4414-8C3D-540BE170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D8A-D5FE-4F63-BD45-F7825A1C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D17-1C11-490F-A8AA-34F070FE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374-FD43-4739-BCB4-FEC2E42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71A-936C-4F51-B51F-39EC58E6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FF5-2405-47E2-A21B-5BBD41DC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A14-72EE-42AE-B772-D64587AC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FC9-51D6-43DC-BD52-AB5062E3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2F5-1E22-4319-841C-EA219B0B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263-EB12-4615-AC6D-67820B3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BD3-1DA6-4758-A994-3CC147CF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E5DC-41B9-4031-B115-04DEB0AEF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00000"/>
                </a:solidFill>
                <a:latin typeface="Mistral"/>
              </a:rPr>
              <a:t>Le point sur</a:t>
            </a:r>
            <a:r>
              <a:rPr b="0" lang="en-US" sz="4400" spc="-1" strike="noStrike">
                <a:solidFill>
                  <a:srgbClr val="000066"/>
                </a:solidFill>
                <a:latin typeface="Mistral"/>
              </a:rPr>
              <a:t> </a:t>
            </a:r>
            <a:br>
              <a:rPr sz="4400"/>
            </a:br>
            <a:br>
              <a:rPr sz="2000"/>
            </a:b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les</a:t>
            </a:r>
            <a:r>
              <a:rPr b="0" lang="en-US" sz="55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attestations</a:t>
            </a:r>
            <a:r>
              <a:rPr b="0" lang="en-US" sz="55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de</a:t>
            </a:r>
            <a:r>
              <a:rPr b="0" lang="en-US" sz="55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formation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aux gestes et soins d’urgence </a:t>
            </a:r>
            <a:br>
              <a:rPr sz="4000"/>
            </a:br>
            <a:br>
              <a:rPr sz="800"/>
            </a:b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et les </a:t>
            </a:r>
            <a:br>
              <a:rPr sz="2800"/>
            </a:br>
            <a:br>
              <a:rPr sz="800"/>
            </a:b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formations paramédic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39720" y="1339920"/>
            <a:ext cx="60469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373720"/>
            <a:ext cx="258408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Cécile LE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entury Gothic"/>
              </a:rPr>
              <a:t>●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CESU 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ANCESU 8 et 12 mai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Utilis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le matériel              adapté à un             traumat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3 : les s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Immobili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observation                                et surveillance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                       des attelles,                         plâtres et t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3080" y="674640"/>
            <a:ext cx="85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Enlever un ca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Georgia"/>
              </a:rPr>
              <a:t>rien de pré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Effectuer un relevage          et un brancar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Georgia"/>
              </a:rPr>
              <a:t>rien de prév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Faire face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à un accouc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3 : les s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avoir se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maternité,           accouc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ctr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br>
              <a:rPr sz="1600"/>
            </a:b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Appliqu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les règles de protection face à un risque infect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82840" y="2838600"/>
            <a:ext cx="5034240" cy="768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Module 6 - Objectif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Utiliser les techniques de nettoy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81400" y="3648240"/>
            <a:ext cx="2519280" cy="2732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marL="263520" indent="-17316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Savoi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prévention des risques - sécurité en milieu hospital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règles d’utilisation des matériels                    et produi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isolement et élimination déch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32360" y="3651120"/>
            <a:ext cx="2482920" cy="27273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marL="173160" indent="-17316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É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 rôle de l’AS dans la prévention                des maladies nosocomiales                  est approfond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s règles d’hygiène et de sécurité             sont respecté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82800" anchor="ctr">
            <a:normAutofit/>
          </a:bodyPr>
          <a:p>
            <a:pPr marL="268200" indent="-268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particip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à la mise              en œuvre des                   plans sani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’intégr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dans les plans de secours et des plans blancs selon le rôle  prévu pour la profession exerc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118800" anchor="ctr">
            <a:normAutofit/>
          </a:bodyPr>
          <a:p>
            <a:pPr marL="268200" indent="-268200"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avoir se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es risques biologiques (NRBC) : conduite à tenir et gestes à év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es risques sani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82800" anchor="ctr">
            <a:normAutofit/>
          </a:bodyPr>
          <a:p>
            <a:pPr marL="268200" indent="-268200" algn="ctr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1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15000"/>
              </a:lnSpc>
              <a:spcBef>
                <a:spcPts val="125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identifi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son rôle             en cas d’activation             des annexes NR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15000"/>
              </a:lnSpc>
              <a:spcBef>
                <a:spcPts val="75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e protéger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 par la tenue adaptée pré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1816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118800" anchor="ctr">
            <a:normAutofit/>
          </a:bodyPr>
          <a:p>
            <a:pPr marL="268200" indent="-268200"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Gothic"/>
              </a:rPr>
              <a:t>Savoir se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ctr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es risques biologiques (NRBC) : conduite à tenir et gestes à év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les risques sani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1413000"/>
            <a:ext cx="712944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ynthèse des éléments de l’AFGSU 2 non prévus dans le D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6480" y="2984400"/>
            <a:ext cx="24415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>
            <a:normAutofit/>
          </a:bodyPr>
          <a:p>
            <a:pPr marL="268200" indent="-26820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RCP avec matériel : chariot d’urgence, matériel embarqué, ventilation avec dispositif, et oxygè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1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DSA ou DA pour ceux qui ne peuvent justifier de cet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203560"/>
            <a:ext cx="244800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2986200"/>
            <a:ext cx="208908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82800" anchor="ctr">
            <a:normAutofit/>
          </a:bodyPr>
          <a:p>
            <a:pPr marL="268200" indent="-268200">
              <a:lnSpc>
                <a:spcPct val="13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utiliser le matériel d’immob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3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enlever le casque inté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3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effectuer un relevage et un brancar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2205000"/>
            <a:ext cx="208908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7920" y="2986200"/>
            <a:ext cx="272916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>
            <a:normAutofit/>
          </a:bodyPr>
          <a:p>
            <a:pPr marL="268200" indent="-2682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participer à la mise           en œuvre des             plans sanitai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s’intégrer dans                  les plans de secours en qualité d’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identifier le rôle de l’AS dans l’activation des annexes NRBC et se protéger par la tenue adapt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1800" y="2205000"/>
            <a:ext cx="2735280" cy="647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2205000"/>
            <a:ext cx="813744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marL="270000" indent="-270000" algn="just">
              <a:lnSpc>
                <a:spcPct val="115000"/>
              </a:lnSpc>
              <a:spcBef>
                <a:spcPts val="21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360360" algn="just">
              <a:lnSpc>
                <a:spcPct val="115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identifier un danger immédiat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dans l’environnement et mettre en œuvre une protection adapté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360360" algn="just">
              <a:lnSpc>
                <a:spcPct val="115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lerter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le SAMU (15) transmettre les données et suivre les conseils donné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360360" algn="just">
              <a:lnSpc>
                <a:spcPct val="115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identifier une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obstruction complète des voies aériennes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et réaliser les gestes adéqua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360360" algn="just">
              <a:lnSpc>
                <a:spcPct val="115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arrêter une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hémorragie exter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1384200"/>
            <a:ext cx="4032360" cy="1049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Éléments non prévus au programme du DPAS et relevant de l’AFGS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708280"/>
            <a:ext cx="784836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 algn="just">
              <a:lnSpc>
                <a:spcPct val="120000"/>
              </a:lnSpc>
              <a:spcBef>
                <a:spcPts val="2625"/>
              </a:spcBef>
              <a:buClr>
                <a:srgbClr val="808080"/>
              </a:buClr>
              <a:buFont typeface="Century Gothic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identifier un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traumatisme osseux ou cutané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et effectuer les gestes adéquat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 algn="just">
              <a:lnSpc>
                <a:spcPct val="120000"/>
              </a:lnSpc>
              <a:spcBef>
                <a:spcPts val="1576"/>
              </a:spcBef>
              <a:buClr>
                <a:srgbClr val="808080"/>
              </a:buClr>
              <a:buFont typeface="Century Gothic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identifier les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signes de gravité d’une brûlure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et agir en conséqu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1384200"/>
            <a:ext cx="4032360" cy="1049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Éléments non prévus au programme du DPAS et relevant de l’AFGSU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574560"/>
            <a:ext cx="318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98560" y="2341440"/>
            <a:ext cx="75610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diplôme professionnel d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ide soignant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diplôme professionnel d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uxiliaire de puéricul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diplôme d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mbulanc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attestation de formation d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uxiliaire ambulanc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10000"/>
              </a:lnSpc>
              <a:spcBef>
                <a:spcPts val="2361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certificat de capacité pour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effectuer des prélèvements sanguins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en vue d’analyse de biologie médica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8000" y="1384200"/>
            <a:ext cx="289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rofessions concer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73280" y="63828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’auxiliaire de puéri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828800"/>
            <a:ext cx="74167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2560" y="3086280"/>
            <a:ext cx="7850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ctr"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Georgia"/>
              </a:rPr>
              <a:t>situation ident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Georgia"/>
              </a:rPr>
              <a:t>aux aides-soig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1828800"/>
            <a:ext cx="2881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rrêté du 16 janvi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3120" y="574560"/>
            <a:ext cx="37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Ambulanc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2560" y="2317680"/>
            <a:ext cx="7850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Impact"/>
              </a:rPr>
              <a:t>Auxiliaires ambul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 algn="just">
              <a:lnSpc>
                <a:spcPct val="110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doivent disposer de l’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AFGSU de niveau 1 à ce jou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-270000" algn="just">
              <a:lnSpc>
                <a:spcPct val="110000"/>
              </a:lnSpc>
              <a:spcBef>
                <a:spcPts val="1312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À partir 2008 : AFGSU de niveau 2 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prévue dans les 70 heures de formation préparant à l’attestation d’auxiliaire ambulanci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1384200"/>
            <a:ext cx="288144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rrêté du 26 janvi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941720"/>
            <a:ext cx="7850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Impact"/>
              </a:rPr>
              <a:t>Diplôme d’ambulan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Pour valider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 le module 1, fournir l’AFGSU de niveau 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8320" y="674640"/>
            <a:ext cx="89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Certificat de Capacité pour effectuer 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prélèvement sangu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07180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2639880"/>
            <a:ext cx="7850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Impact"/>
              </a:rPr>
              <a:t>Artic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Le stage comporte une </a:t>
            </a:r>
            <a:r>
              <a:rPr b="1" lang="en-US" sz="2100" spc="-1" strike="noStrike">
                <a:solidFill>
                  <a:srgbClr val="000066"/>
                </a:solidFill>
                <a:latin typeface="Century Gothic"/>
              </a:rPr>
              <a:t>formation de niveau 2</a:t>
            </a:r>
            <a:r>
              <a:rPr b="0" lang="en-US" sz="2100" spc="-1" strike="noStrike">
                <a:solidFill>
                  <a:srgbClr val="000066"/>
                </a:solidFill>
                <a:latin typeface="Century Gothic"/>
              </a:rPr>
              <a:t> aux gestes et soins d’urg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114640"/>
            <a:ext cx="266544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rrêté du 13 mars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114800"/>
            <a:ext cx="785016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66"/>
                </a:solidFill>
                <a:uFillTx/>
                <a:latin typeface="Impact"/>
              </a:rPr>
              <a:t>Article 13</a:t>
            </a:r>
            <a:r>
              <a:rPr b="0" lang="fr-FR" sz="24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(alinéa 1 et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Century Gothic"/>
              </a:rPr>
              <a:t>A titre dérogatoire</a:t>
            </a: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 jusqu’au 20 avril 2007 , les titulaires du certificat de capacité peuvent effectuer des prélèvements en dehors du laboratoire avec l’AF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Après ce délai, ils devront produire </a:t>
            </a:r>
            <a:r>
              <a:rPr b="1" lang="fr-FR" sz="2000" spc="-1" strike="noStrike">
                <a:solidFill>
                  <a:srgbClr val="000066"/>
                </a:solidFill>
                <a:latin typeface="Century Gothic"/>
              </a:rPr>
              <a:t>l’AFGSU de niveau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574560"/>
            <a:ext cx="318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2205000"/>
            <a:ext cx="79200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6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66"/>
                </a:solidFill>
                <a:latin typeface="Times New Roman"/>
              </a:rPr>
              <a:t>« Pour les professionnels de santé, les contenus et les durées des modules définis aux articles 6 à 9 de l’arrêté peuvent être adaptés en fonction des connaissances qu’ils ont déjà acquises dans le cadre de leur formation à l’exercice de leur profession 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84920" y="1384200"/>
            <a:ext cx="333216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FGSU de niveau 2 – articl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2560" y="2133720"/>
            <a:ext cx="7850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190800" anchor="t">
            <a:spAutoFit/>
          </a:bodyPr>
          <a:p>
            <a:pPr algn="just">
              <a:lnSpc>
                <a:spcPct val="12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Gothic"/>
              </a:rPr>
              <a:t>Pour valider le module 3,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 le candidat devra :</a:t>
            </a:r>
            <a:r>
              <a:rPr b="0" lang="en-US" sz="25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360360" algn="just">
              <a:lnSpc>
                <a:spcPct val="100000"/>
              </a:lnSpc>
              <a:spcBef>
                <a:spcPts val="2200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fournir l’attestation de formation aux gestes et soins d’urgence de niveau 2 (AFGSU 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360360" algn="just">
              <a:lnSpc>
                <a:spcPct val="120000"/>
              </a:lnSpc>
              <a:spcBef>
                <a:spcPts val="1100"/>
              </a:spcBef>
              <a:buClr>
                <a:srgbClr val="8080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Century Gothic"/>
              </a:rPr>
              <a:t>ou</a:t>
            </a: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 un équivalent reconnu par le ministère chargé de la sant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1384200"/>
            <a:ext cx="2953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rrêté du 22 octobr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881600"/>
            <a:ext cx="75614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entury Gothic"/>
              </a:rPr>
              <a:t>Plusieurs thèmes </a:t>
            </a:r>
            <a:r>
              <a:rPr b="0" lang="fr-FR" sz="2400" spc="-1" strike="noStrike">
                <a:solidFill>
                  <a:srgbClr val="000066"/>
                </a:solidFill>
                <a:latin typeface="Century Gothic"/>
              </a:rPr>
              <a:t>contenus dans le programme de l’AFGSU 2 sont déjà traités transversalement dans les différents modules du D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1440" y="67464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6480" y="2984400"/>
            <a:ext cx="3598920" cy="3289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Mettre en œuvre des appareils non invasifs                   de surveillance des paramètres vit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2203560"/>
            <a:ext cx="360072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8160" y="2984400"/>
            <a:ext cx="3598920" cy="138132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Apprécier l’état clinique d’une pers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1680" y="2203560"/>
            <a:ext cx="360036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2840" y="4437000"/>
            <a:ext cx="3594240" cy="2179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Objectif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mesures des paramètres vitaux chez l’adulte et l’enf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utilisation des outils de mesure (PA, t°, scope..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1440" y="67464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Identifier                          un ACR                            et réaliser                     une RCP                avec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838600"/>
            <a:ext cx="5040360" cy="10918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entury Gothic"/>
              </a:rPr>
              <a:t>Apprécier l’état clinique d’une person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2840" y="3975120"/>
            <a:ext cx="2513160" cy="26737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270000" indent="-27000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Objectif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identifier les signes de détres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discerner le caractère urgent d’une situation                   et aler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29480" y="3975120"/>
            <a:ext cx="2493720" cy="803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marL="173160" indent="-17316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Savoi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s situations d’urg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29480" y="4809960"/>
            <a:ext cx="2493720" cy="1578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rm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É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repérer les situations à risque et alerter             les interlocuteurs compét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Appliquer les procédures de maintenance et de matério-vigilance des matériels d’u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819520"/>
            <a:ext cx="5040360" cy="109224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 fontScale="90000"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4 &amp;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Appliquer les règles de sécurité et de prévention des ris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82840" y="3975120"/>
            <a:ext cx="5034240" cy="2914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98000" tIns="82800" bIns="82800" anchor="t">
            <a:spAutoFit/>
          </a:bodyPr>
          <a:p>
            <a:pPr marL="270000" indent="-27000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Objectif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repérer toute anomalie dans le fonctionnement des appareils médicaux et alerter (M 6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identifier et appliquer les règles de sécurité et de prévention des risques, notamment ceux liés aux pathologies  et à l’utilisation du matériel médical (M 4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2160" y="67464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Appliquer les procédures de maintenance et de matério-vigilance des matériels d’u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838600"/>
            <a:ext cx="5040360" cy="10918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 fontScale="90000"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Prévenir les risques liés à l’infection et à la sécurité en milieu hospit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82840" y="3975120"/>
            <a:ext cx="5034240" cy="2703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98000" tIns="82800" bIns="82800" anchor="t">
            <a:spAutoFit/>
          </a:bodyPr>
          <a:p>
            <a:pPr marL="270000" indent="-27000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Savoi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risques d’AES, les règ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montage entretien et surveillance du matériel de soin : oxygénothérapie, aspiration, transport patien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prévention des risques et commissions de vigila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00000"/>
              </a:lnSpc>
              <a:spcBef>
                <a:spcPts val="63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1440" y="674640"/>
            <a:ext cx="84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Impact"/>
              </a:rPr>
              <a:t>Diplôme Professionnel d’aide-soig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341360"/>
            <a:ext cx="74170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6480" y="2838600"/>
            <a:ext cx="2152800" cy="35416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Impact"/>
              </a:rPr>
              <a:t>Module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entury Gothic"/>
              </a:rPr>
              <a:t>Appliquer les procédures de maintenance et de matério-vigilance des matériels d’u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2838600"/>
            <a:ext cx="5040360" cy="1199880"/>
          </a:xfrm>
          <a:prstGeom prst="rect">
            <a:avLst/>
          </a:prstGeom>
          <a:solidFill>
            <a:srgbClr val="993366">
              <a:alpha val="1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18800" anchor="t">
            <a:normAutofit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Impact"/>
              </a:rPr>
              <a:t>Module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entury Gothic"/>
              </a:rPr>
              <a:t>Prévenir les risques liés à l’infection et à la sécurité en milieu hospit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82840" y="4114800"/>
            <a:ext cx="5034240" cy="2440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98000" tIns="82800" bIns="118800" anchor="t">
            <a:spAutoFit/>
          </a:bodyPr>
          <a:p>
            <a:pPr marL="263520" indent="-26352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ctr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Century Gothic"/>
              </a:rPr>
              <a:t>É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ctr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just">
              <a:lnSpc>
                <a:spcPct val="120000"/>
              </a:lnSpc>
              <a:spcBef>
                <a:spcPts val="148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s règles d’hygiène et de sécurité sont respecté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just">
              <a:lnSpc>
                <a:spcPct val="120000"/>
              </a:lnSpc>
              <a:spcBef>
                <a:spcPts val="1488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entury Gothic"/>
              </a:rPr>
              <a:t>les risques d’erreurs et leurs conséquences sont identifiée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just">
              <a:lnSpc>
                <a:spcPct val="100000"/>
              </a:lnSpc>
              <a:spcBef>
                <a:spcPts val="125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just">
              <a:lnSpc>
                <a:spcPct val="130000"/>
              </a:lnSpc>
              <a:spcBef>
                <a:spcPts val="176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060640"/>
            <a:ext cx="2154240" cy="647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AFGSU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0240" y="2060640"/>
            <a:ext cx="5041800" cy="6476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D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1384200"/>
            <a:ext cx="1729080" cy="774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0800" anchor="t">
            <a:spAutoFit/>
          </a:bodyPr>
          <a:p>
            <a:pPr algn="ct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DPAS et AFG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08:51:46Z</dcterms:created>
  <dc:creator>LEMAN</dc:creator>
  <dc:description/>
  <dc:language>en-US</dc:language>
  <cp:lastModifiedBy>LEMAN</cp:lastModifiedBy>
  <dcterms:modified xsi:type="dcterms:W3CDTF">2006-05-09T07:19:21Z</dcterms:modified>
  <cp:revision>32</cp:revision>
  <dc:subject/>
  <dc:title>Diplôme Professionnel d’Aide Soignant et Attestation de formation aux gestes et soins d’urgenc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27049160</vt:r8>
  </property>
  <property fmtid="{D5CDD505-2E9C-101B-9397-08002B2CF9AE}" pid="3" name="_AuthorEmail">
    <vt:lpwstr>Ghislaine.TANGUY@chu-rennes.fr</vt:lpwstr>
  </property>
  <property fmtid="{D5CDD505-2E9C-101B-9397-08002B2CF9AE}" pid="4" name="_AuthorEmailDisplayName">
    <vt:lpwstr>TANGUY Ghislaine</vt:lpwstr>
  </property>
  <property fmtid="{D5CDD505-2E9C-101B-9397-08002B2CF9AE}" pid="5" name="_EmailSubject">
    <vt:lpwstr>site web ancesu</vt:lpwstr>
  </property>
</Properties>
</file>