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D11-EA24-483D-9331-C0027786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C0F-A5A4-4B43-BC1A-1164A253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C4B-ADEF-4974-8FCF-B8F8A85B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C3A-3CFA-483A-B392-D044A0A2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D46-F29D-4CD3-AB84-96872A7D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F9D-D839-40C7-8225-396F0DDE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F7B-CEA7-486A-A060-33199EB1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52C-11DC-4B42-9B7C-F4A014E6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FA3-C33E-42E1-B419-0784BB40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DD3-01DB-4CC1-BD17-8FAA2DE0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C3A-65BB-4916-857F-9D5CB41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938-F4DC-4863-8DDE-F48C9B82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NCESU      MAI        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4199-DF96-4082-833F-59115E631EC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628640"/>
            <a:ext cx="7201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. F. G. S. U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ttestation de Formatio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ux Gestes et Soins d'urgenc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279600" y="494172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êté du 3 mar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D1F-840F-4D30-B79F-5C9C11745EE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85840" y="266076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FORME A QUO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738-EE5D-4AE2-80F3-5AA87AEDBB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85840" y="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 FORME A QUO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620640"/>
            <a:ext cx="882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  3 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par les 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uctures de formation des professionnels de santé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ous la responsabilité du  médecin directeur scientifique et pédagogique d’un CESU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557360"/>
            <a:ext cx="3600360" cy="1224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uels des C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veaux 1  2 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1628640"/>
            <a:ext cx="3600720" cy="1224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INSTIT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veaux 1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852640"/>
            <a:ext cx="3957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TES actuellement 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r  Urgence  Vital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r une partie des urgences potenti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érience pédagogique/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LETER  PA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ément technique Urg. Potenti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sque collectif Niveau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mation N R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40320" y="3141720"/>
            <a:ext cx="3703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TES actuellement 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che pédagog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 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LETER  PA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r  Urg.  Vital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r  Urg. Potenti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que collectif  Niveau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6E0-7166-4A80-8ADA-10D4E57DEE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96000" y="237348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PRIORITES DE FORM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48B-7A8A-4A7F-B2E9-6B8DE15D1A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95640" y="260280"/>
            <a:ext cx="42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PRIORITES DE 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720" y="11253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court terme 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557360"/>
            <a:ext cx="309708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s concer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7948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852640"/>
            <a:ext cx="288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F.Init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3366"/>
                </a:solidFill>
                <a:latin typeface="Arial"/>
              </a:rPr>
              <a:t>AS,  Aux Pu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3366"/>
                </a:solidFill>
                <a:latin typeface="Arial"/>
              </a:rPr>
              <a:t>Ambulanci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3366"/>
                </a:solidFill>
                <a:latin typeface="Arial"/>
              </a:rPr>
              <a:t>Préleveur labo.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iveau 2 exig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e text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80000" y="1052640"/>
            <a:ext cx="4420800" cy="4485240"/>
            <a:chOff x="3780000" y="1052640"/>
            <a:chExt cx="4420800" cy="4485240"/>
          </a:xfrm>
        </p:grpSpPr>
        <p:sp>
          <p:nvSpPr>
            <p:cNvPr id="103" name=""/>
            <p:cNvSpPr/>
            <p:nvPr/>
          </p:nvSpPr>
          <p:spPr>
            <a:xfrm>
              <a:off x="5796360" y="1052640"/>
              <a:ext cx="24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moyen  term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67280" y="2517840"/>
              <a:ext cx="24606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F.Init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IFSI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Manip ra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Kiné……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14 professio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Titre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80000" y="1557360"/>
              <a:ext cx="3024000" cy="861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utr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STITU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480000" y="1484280"/>
            <a:ext cx="2718360" cy="4053600"/>
            <a:chOff x="6480000" y="1484280"/>
            <a:chExt cx="2718360" cy="4053600"/>
          </a:xfrm>
        </p:grpSpPr>
        <p:sp>
          <p:nvSpPr>
            <p:cNvPr id="107" name=""/>
            <p:cNvSpPr/>
            <p:nvPr/>
          </p:nvSpPr>
          <p:spPr>
            <a:xfrm>
              <a:off x="6480000" y="1484280"/>
              <a:ext cx="2664000" cy="934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s perso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f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51240" y="2517840"/>
              <a:ext cx="22471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F. C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4 a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niqu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 profession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tre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B9D-596D-47C5-9607-1FCC637B36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671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5240" y="2589120"/>
            <a:ext cx="54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ISE EN COMPTE DES ACQ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5EA-CDC2-468E-A966-EF10916F57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92360" y="333360"/>
            <a:ext cx="57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RISE EN COMPTE DES ACQUIS  nivea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9080" y="836640"/>
            <a:ext cx="7395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 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s contenus et durées des modules  art 6  à 9  peuvent ê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aptés aux acquis des formations antérieur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421000"/>
            <a:ext cx="287964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ENCE VITALE 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2421000"/>
            <a:ext cx="2232000" cy="3603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. Potentielle 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2421000"/>
            <a:ext cx="2232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isque Collect. 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0" y="24210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GS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3716280"/>
            <a:ext cx="21603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ENCE VI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3716280"/>
            <a:ext cx="1800000" cy="4334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. Potenti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6720" y="5083200"/>
            <a:ext cx="223200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isque Collect. 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80" y="3429000"/>
            <a:ext cx="122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19640" y="5084640"/>
            <a:ext cx="863280" cy="432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5084640"/>
            <a:ext cx="648000" cy="4320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200" y="5149800"/>
            <a:ext cx="301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mplément d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FPS avant 2007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5084640"/>
            <a:ext cx="863640" cy="4320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l B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6AB-9030-4742-9E85-6548EF6AB7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93440" y="333360"/>
            <a:ext cx="47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RISE EN COMPTE DES ACQUI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9080" y="836640"/>
            <a:ext cx="7395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 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s contenus et durées des modules  art 6  à 9  peuvent ê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aptés aux acquis des formations antérieur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2205000"/>
            <a:ext cx="3024360" cy="360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ENCE VITALE 6h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2205000"/>
            <a:ext cx="2376360" cy="3603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. Potentielle 3h+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2205000"/>
            <a:ext cx="2448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isque Collect. 3h+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0" y="1989000"/>
            <a:ext cx="128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FGSU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3141720"/>
            <a:ext cx="1944720" cy="431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ENCE VI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3213000"/>
            <a:ext cx="2087640" cy="3603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G. Potentie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5229360"/>
            <a:ext cx="2556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isque Collect. 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0" y="501336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  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5229360"/>
            <a:ext cx="201600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E+RCP equ 4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16360" y="4437000"/>
            <a:ext cx="56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emple Complément de formation pour AFGSU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5229360"/>
            <a:ext cx="1944360" cy="5047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l  casq .. 3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068640"/>
            <a:ext cx="136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  F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éal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692-25FA-446F-983C-1EC32E80C3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31600" y="352440"/>
            <a:ext cx="45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E   des C E S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6160" y="1433520"/>
            <a:ext cx="39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égie locale………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2680" y="306864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égie Départementale/Régionale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1440" y="4505400"/>
            <a:ext cx="35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 C E S U ………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F32-21DE-4318-91A0-DC7F80C7A7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703240" y="35388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 loca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1268280"/>
            <a:ext cx="237636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ER C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3240" y="2276640"/>
            <a:ext cx="2978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l’impact de l’arrêté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 les instit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 TOUT l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traçabilité des form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plôme offici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c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 l’activité CE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203640" y="1341360"/>
            <a:ext cx="2952720" cy="2858760"/>
            <a:chOff x="3203640" y="1341360"/>
            <a:chExt cx="2952720" cy="2858760"/>
          </a:xfrm>
        </p:grpSpPr>
        <p:sp>
          <p:nvSpPr>
            <p:cNvPr id="147" name=""/>
            <p:cNvSpPr/>
            <p:nvPr/>
          </p:nvSpPr>
          <p:spPr>
            <a:xfrm>
              <a:off x="3274920" y="1341360"/>
              <a:ext cx="2160720" cy="647640"/>
            </a:xfrm>
            <a:prstGeom prst="roundRect">
              <a:avLst>
                <a:gd name="adj" fmla="val 16667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CENS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3640" y="2276640"/>
              <a:ext cx="2952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 moyens exista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sponsable CES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mateur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téri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c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rétariat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405480" y="1341360"/>
            <a:ext cx="2343240" cy="3236400"/>
            <a:chOff x="6405480" y="1341360"/>
            <a:chExt cx="2343240" cy="3236400"/>
          </a:xfrm>
        </p:grpSpPr>
        <p:sp>
          <p:nvSpPr>
            <p:cNvPr id="150" name=""/>
            <p:cNvSpPr/>
            <p:nvPr/>
          </p:nvSpPr>
          <p:spPr>
            <a:xfrm>
              <a:off x="6589800" y="1341360"/>
              <a:ext cx="2158920" cy="647640"/>
            </a:xfrm>
            <a:prstGeom prst="roundRect">
              <a:avLst>
                <a:gd name="adj" fmla="val 16667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STIMER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5480" y="2349360"/>
              <a:ext cx="2302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 moyens 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tre en oeuvr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mer formate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téri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caux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rétari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élai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040" y="4869000"/>
            <a:ext cx="7662600" cy="1216440"/>
            <a:chOff x="5040" y="4869000"/>
            <a:chExt cx="7662600" cy="1216440"/>
          </a:xfrm>
        </p:grpSpPr>
        <p:sp>
          <p:nvSpPr>
            <p:cNvPr id="153" name=""/>
            <p:cNvSpPr/>
            <p:nvPr/>
          </p:nvSpPr>
          <p:spPr>
            <a:xfrm>
              <a:off x="5040" y="5381640"/>
              <a:ext cx="3304800" cy="703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Quel  PLA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NSTITUTIONNEL 2007 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34920" y="4941720"/>
              <a:ext cx="360360" cy="35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67640" y="4869000"/>
              <a:ext cx="0" cy="86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24360" y="5734080"/>
              <a:ext cx="453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85A-7CC9-4728-8C49-C8C3CA6315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6560" y="1268280"/>
            <a:ext cx="237672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2960" y="2276640"/>
            <a:ext cx="4887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R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fournit les listes/dates réun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possibilités de ré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instit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modalité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possibilités de ré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ux besoins de formation des étudi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ux besoins de formation de formate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négociations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tarifs adapté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072040" y="1295280"/>
            <a:ext cx="3864240" cy="3587400"/>
            <a:chOff x="5072040" y="1295280"/>
            <a:chExt cx="3864240" cy="3587400"/>
          </a:xfrm>
        </p:grpSpPr>
        <p:sp>
          <p:nvSpPr>
            <p:cNvPr id="160" name=""/>
            <p:cNvSpPr/>
            <p:nvPr/>
          </p:nvSpPr>
          <p:spPr>
            <a:xfrm>
              <a:off x="5791320" y="1295280"/>
              <a:ext cx="2160360" cy="648000"/>
            </a:xfrm>
            <a:prstGeom prst="roundRect">
              <a:avLst>
                <a:gd name="adj" fmla="val 16667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CENS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72040" y="2349360"/>
              <a:ext cx="38642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 Moyens Départ./Rég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 réunir pour recenser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s  besoins institu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s moyens   CES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s moyens des autres C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s possibilités de réponses 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teurs isolé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553760" y="404640"/>
            <a:ext cx="63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 Départementale/Rég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23240" y="4869000"/>
            <a:ext cx="3094560" cy="1283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éseau d’ensei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soins d’urg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ôle des CESU de 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BA5-FCD4-4B26-A7A8-1143F106C2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7320" y="739800"/>
            <a:ext cx="55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objectifs pédagogiques par niveau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7840" y="1674720"/>
            <a:ext cx="38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lle validation AFGSU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49480" y="2467080"/>
            <a:ext cx="30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 forme à quoi ?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6040" y="4051440"/>
            <a:ext cx="46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lles priorités de formation?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5680" y="3187800"/>
            <a:ext cx="52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lle  prise en compte des acquis?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7840" y="513252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stratégie des CESU 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F8A-AA63-4222-84DE-8F7ADB30FF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360" y="1268280"/>
            <a:ext cx="2843280" cy="64800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voir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des  Pédagog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9800" y="2276640"/>
            <a:ext cx="3190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aciliter le démar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 produisant des o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G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s condu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ches de su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ches 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plôme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eurs  Instit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s conducteurs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9440" y="2276640"/>
            <a:ext cx="3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7080" y="189000"/>
            <a:ext cx="3452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ôle A.N.C.E.S.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érer le RE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341240" y="1341360"/>
            <a:ext cx="4641840" cy="4727160"/>
            <a:chOff x="4341240" y="1341360"/>
            <a:chExt cx="4641840" cy="4727160"/>
          </a:xfrm>
        </p:grpSpPr>
        <p:sp>
          <p:nvSpPr>
            <p:cNvPr id="169" name=""/>
            <p:cNvSpPr/>
            <p:nvPr/>
          </p:nvSpPr>
          <p:spPr>
            <a:xfrm>
              <a:off x="4414680" y="1341360"/>
              <a:ext cx="4321440" cy="647640"/>
            </a:xfrm>
            <a:prstGeom prst="roundRect">
              <a:avLst>
                <a:gd name="adj" fmla="val 16667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S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 FORMATIONS Formate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41240" y="2286000"/>
              <a:ext cx="4641840" cy="37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réparer Formations Universitai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(D.I.U., attestation de suivi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roposer des  Formations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ontin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 formateurs actuels aux AFGSU 1 2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programme en cour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Renforcer les régions  si nécessa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ôle du C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DFE-175C-4D65-AD49-69E30C6F6E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51600" y="333360"/>
            <a:ext cx="56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SUS des FORMATEURS  C E S 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5877000"/>
            <a:ext cx="45370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RMATEURS ACT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edecins, moniteurs , instruc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72360" y="5877000"/>
            <a:ext cx="1008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.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V 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950080"/>
            <a:ext cx="100800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.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isq Co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3628400">
            <a:off x="-180360" y="5490000"/>
            <a:ext cx="2087640" cy="647640"/>
          </a:xfrm>
          <a:custGeom>
            <a:avLst/>
            <a:gdLst>
              <a:gd name="textAreaLeft" fmla="*/ 365400 w 2087640"/>
              <a:gd name="textAreaRight" fmla="*/ 1513800 w 20876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3628400">
            <a:off x="-324720" y="3427920"/>
            <a:ext cx="2087640" cy="647640"/>
          </a:xfrm>
          <a:custGeom>
            <a:avLst/>
            <a:gdLst>
              <a:gd name="textAreaLeft" fmla="*/ 365400 w 2087640"/>
              <a:gd name="textAreaRight" fmla="*/ 1513800 w 208764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1197000"/>
            <a:ext cx="5543640" cy="57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TER ….DESS pédagogi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042920" y="1699920"/>
            <a:ext cx="172872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49440" y="2637000"/>
            <a:ext cx="12175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36800" y="2637000"/>
            <a:ext cx="121788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rg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ita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5960" y="2637000"/>
            <a:ext cx="121608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édagog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15120" y="2637000"/>
            <a:ext cx="12175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édagog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02480" y="2637000"/>
            <a:ext cx="12175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y na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rou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95720" y="3429000"/>
            <a:ext cx="12175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83080" y="3429000"/>
            <a:ext cx="121788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édagog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ene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0560" y="2276640"/>
            <a:ext cx="2061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I. 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dag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g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que collec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868480" y="4581360"/>
            <a:ext cx="5806800" cy="990360"/>
            <a:chOff x="2868480" y="4581360"/>
            <a:chExt cx="5806800" cy="990360"/>
          </a:xfrm>
        </p:grpSpPr>
        <p:sp>
          <p:nvSpPr>
            <p:cNvPr id="188" name=""/>
            <p:cNvSpPr/>
            <p:nvPr/>
          </p:nvSpPr>
          <p:spPr>
            <a:xfrm>
              <a:off x="2868480" y="4581360"/>
              <a:ext cx="1265040" cy="9889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rgenc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tal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18400" y="4581360"/>
              <a:ext cx="1266840" cy="99036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Urgenc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otentie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3j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56360" y="4581360"/>
              <a:ext cx="1265040" cy="98892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rgenc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tal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08440" y="4581360"/>
              <a:ext cx="1266840" cy="99036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s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l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j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116000" y="460224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S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538080" y="5570280"/>
            <a:ext cx="44604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03640" y="55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076720" y="5516280"/>
            <a:ext cx="165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73272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7BC-B70E-4CF5-8967-761FB50C86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2760" y="2276640"/>
            <a:ext cx="59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objectifs par niveau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D22-6A9B-4D4A-89E5-7DE270E351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93840" y="11592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LES OBJECTIFS     -    NIVEA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81000"/>
            <a:ext cx="2881440" cy="792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GENCE VITALE  6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040" y="4653000"/>
            <a:ext cx="289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tection/Ale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tre/coté Incons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ésobstruer 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êt hémorra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CP seu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2520" y="2413080"/>
            <a:ext cx="289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Protection 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Comp. Thoracique se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B à B en pri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cc"/>
                </a:solidFill>
                <a:latin typeface="Arial"/>
              </a:rPr>
              <a:t>D A E pour t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640" y="400536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ait actuel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0" y="177336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FGSU spécifique 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940360" y="1052640"/>
            <a:ext cx="3202560" cy="2610360"/>
            <a:chOff x="5940360" y="1052640"/>
            <a:chExt cx="3202560" cy="2610360"/>
          </a:xfrm>
        </p:grpSpPr>
        <p:sp>
          <p:nvSpPr>
            <p:cNvPr id="57" name=""/>
            <p:cNvSpPr/>
            <p:nvPr/>
          </p:nvSpPr>
          <p:spPr>
            <a:xfrm>
              <a:off x="5940360" y="1052640"/>
              <a:ext cx="3168720" cy="792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SQUE COLLECTIF  3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6960" y="2349360"/>
              <a:ext cx="2685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cc"/>
                  </a:solidFill>
                  <a:latin typeface="Arial"/>
                </a:rPr>
                <a:t>Plan blanc 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cc"/>
                  </a:solidFill>
                  <a:latin typeface="Arial"/>
                </a:rPr>
                <a:t>Plan sanitair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cc"/>
                  </a:solidFill>
                  <a:latin typeface="Arial"/>
                </a:rPr>
                <a:t>Sensibilisation NR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cc"/>
                  </a:solidFill>
                  <a:latin typeface="Arial"/>
                </a:rPr>
                <a:t>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843280" y="981000"/>
            <a:ext cx="3173040" cy="5171040"/>
            <a:chOff x="2843280" y="981000"/>
            <a:chExt cx="3173040" cy="5171040"/>
          </a:xfrm>
        </p:grpSpPr>
        <p:sp>
          <p:nvSpPr>
            <p:cNvPr id="60" name=""/>
            <p:cNvSpPr/>
            <p:nvPr/>
          </p:nvSpPr>
          <p:spPr>
            <a:xfrm>
              <a:off x="2843280" y="981000"/>
              <a:ext cx="3024000" cy="7923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RG. POTENTIELLE  3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06200" y="4869000"/>
              <a:ext cx="229716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alai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rauma.  osse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rauma. Cutané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73840" y="2332080"/>
              <a:ext cx="27424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SP, SF précédan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détresse vit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-Trauma.  Os. succin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-Hygiène, prot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</a:rPr>
                <a:t>-Notion de relevage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C5F-3E77-49B1-8FBC-1F30E13C85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33320" y="11592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LES OBJECTIFS     -    NIVEAU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36640"/>
            <a:ext cx="2881440" cy="792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GENCE VITALE +3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4581360"/>
            <a:ext cx="56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tériel Urgenc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lien catég. Prof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tério-vigilance 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ufflation ball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o- rempl.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IDE AS M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ation DSA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IDE, Amb, Kiné,ME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7480" y="2389320"/>
            <a:ext cx="3077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3366"/>
                </a:solidFill>
                <a:latin typeface="Arial"/>
              </a:rPr>
              <a:t>DAE : t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3366"/>
                </a:solidFill>
                <a:latin typeface="Arial"/>
              </a:rPr>
              <a:t>Insufflation ballon :  t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3366"/>
                </a:solidFill>
                <a:latin typeface="Arial"/>
              </a:rPr>
              <a:t>Appareils surveil : t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3366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993366"/>
                </a:solidFill>
                <a:latin typeface="Arial"/>
              </a:rPr>
              <a:t>en  REF décrets pr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80" y="4005360"/>
            <a:ext cx="71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it actuellemen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ref  décret compétences professionnelle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640" y="184464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AFGSU spécifique 2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940360" y="907920"/>
            <a:ext cx="3204000" cy="2682360"/>
            <a:chOff x="5940360" y="907920"/>
            <a:chExt cx="3204000" cy="2682360"/>
          </a:xfrm>
        </p:grpSpPr>
        <p:sp>
          <p:nvSpPr>
            <p:cNvPr id="70" name=""/>
            <p:cNvSpPr/>
            <p:nvPr/>
          </p:nvSpPr>
          <p:spPr>
            <a:xfrm>
              <a:off x="5940360" y="907920"/>
              <a:ext cx="3168720" cy="79236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QUE COLLECTIF+3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32240" y="2276640"/>
              <a:ext cx="3012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2000" spc="-1" strike="noStrike">
                  <a:solidFill>
                    <a:srgbClr val="993366"/>
                  </a:solidFill>
                  <a:latin typeface="Arial"/>
                </a:rPr>
                <a:t>Plan blanc 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993366"/>
                  </a:solidFill>
                  <a:latin typeface="Arial"/>
                </a:rPr>
                <a:t>Risque  NR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993366"/>
                  </a:solidFill>
                  <a:latin typeface="Arial"/>
                </a:rPr>
                <a:t>Habillage/Déshabill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3366"/>
                  </a:solidFill>
                  <a:latin typeface="Arial"/>
                </a:rPr>
                <a:t>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843280" y="836640"/>
            <a:ext cx="3070800" cy="3282480"/>
            <a:chOff x="2843280" y="836640"/>
            <a:chExt cx="3070800" cy="3282480"/>
          </a:xfrm>
        </p:grpSpPr>
        <p:sp>
          <p:nvSpPr>
            <p:cNvPr id="73" name=""/>
            <p:cNvSpPr/>
            <p:nvPr/>
          </p:nvSpPr>
          <p:spPr>
            <a:xfrm>
              <a:off x="2843280" y="836640"/>
              <a:ext cx="3024000" cy="7920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RG. POTENTIELLE+3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72840" y="2195640"/>
              <a:ext cx="25412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Retrait cas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Pose collier/ attell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Accouch. inopin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Relev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Protection ris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   </a:t>
              </a:r>
              <a:r>
                <a:rPr b="0" lang="fr-FR" sz="2000" spc="-1" strike="noStrike">
                  <a:solidFill>
                    <a:srgbClr val="993366"/>
                  </a:solidFill>
                  <a:latin typeface="Arial"/>
                </a:rPr>
                <a:t>Infectieux 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92E-F2D2-4B0A-9661-1A27327FF2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35120" y="163440"/>
            <a:ext cx="40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S OBJECTIFS     -    NIVEAU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981000"/>
            <a:ext cx="4176720" cy="792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QUE COLLECTIF   9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0960" y="2395440"/>
            <a:ext cx="643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quer les protocoles d’habillage/Déshabillage :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 au risque  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 au risque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0560" y="119700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GSU spécifiq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2880" y="1963800"/>
            <a:ext cx="31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it actuellement sur  7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0840" y="4076640"/>
            <a:ext cx="764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quer les protocoles de décontamination  :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îne de décontamination face au risque  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îne de décontami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 au risque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E36C-29FC-4539-826A-CAAC914C3F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68720" y="2589120"/>
            <a:ext cx="49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LLE VALIDATION  AFGSU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C98-0900-419F-9AAA-C5410CC5C6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28000" y="33336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LLE VALID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3440" y="1052640"/>
            <a:ext cx="879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rt  5 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Validation sommative  :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« basée sur l’évaluation  pratique de l’acqui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des gestes et comportements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565360"/>
            <a:ext cx="8815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voir assisté à la totalité de la 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voir réalisé tous les gestes techniques au cours des apprentiss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voir eu un comportement adapté au cours de mises en sit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198900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critères propos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280" y="5181480"/>
            <a:ext cx="775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ur Niveau 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évaluation  en équi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 moins deux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mises en situation sur une détresse vit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360" y="4495680"/>
            <a:ext cx="734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ur Niveau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évaluation individu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 moins un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mise en situation sur une détresse v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CC9-873C-422E-AA7B-A6B8A826DE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397-4D68-4530-A63F-32E052A74F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6:07:00Z</dcterms:created>
  <dc:creator>Jéjé</dc:creator>
  <dc:description/>
  <dc:language>en-US</dc:language>
  <cp:lastModifiedBy>CHU RENNES</cp:lastModifiedBy>
  <dcterms:modified xsi:type="dcterms:W3CDTF">2006-05-30T08:11:58Z</dcterms:modified>
  <cp:revision>217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3870534</vt:r8>
  </property>
  <property fmtid="{D5CDD505-2E9C-101B-9397-08002B2CF9AE}" pid="3" name="_AuthorEmail">
    <vt:lpwstr>Ghislaine.TANGUY@chu-rennes.fr</vt:lpwstr>
  </property>
  <property fmtid="{D5CDD505-2E9C-101B-9397-08002B2CF9AE}" pid="4" name="_AuthorEmailDisplayName">
    <vt:lpwstr>TANGUY Ghislaine</vt:lpwstr>
  </property>
  <property fmtid="{D5CDD505-2E9C-101B-9397-08002B2CF9AE}" pid="5" name="_EmailSubject">
    <vt:lpwstr>site web ancesu</vt:lpwstr>
  </property>
</Properties>
</file>